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D36-A32B-45B9-8201-A99B8BE6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30A6-0D49-4F5E-AB59-629889B6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B22-E677-4A6E-85F8-CC8C88A3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745-82DD-4C07-B3EC-142A3B03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1F9A-0527-42E1-A0AC-4F344480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D8EA-2CCF-4CC3-967D-29D8E227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46C7-08DC-4C8B-8892-6FC68635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141F-D9FC-42DF-AF06-36BEB1E8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2776-CAB0-4779-87C4-B16C9500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C07D-A0FC-43B6-84FF-A12D9996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88B0-45FA-4057-8928-348206F0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B565-E974-4E7F-B6E2-C6FD897C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962A-366C-4282-95A5-94C6091F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1532-CDC9-4AB1-A49C-78149DB5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2A7F-BC81-40F1-9885-1D35001B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E777-FA18-4DDA-AAC1-3EA38692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B5F7-ECD1-4F03-8527-9BACA8A9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09B1F-449F-449D-B8D6-859815A7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1A49B-F178-4DA4-9D37-2AED8AF1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DF13F-31B0-43D0-8EAB-4B1FA59C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EF9DF-E8BC-4B39-A075-A8D5891E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0569B-200D-4D4C-9F26-B9958815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0A4-351F-4AE7-9B41-D4CE387A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F9EC3-3428-4A57-A851-5480E40F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BB0C8-9E84-4CFD-BF52-EEC66BE0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84011-D6F1-4867-A8FE-4505110F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3B6AE-1E16-4C7E-BD1E-149A9034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66D6B-892A-49E3-9698-5ABC30EB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4210B-5EAF-4317-98C3-7F61AAD2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E5D36-279A-4306-A6B1-57E7286E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6875-5A33-4652-9F27-5D6EC69F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86AE-BDDF-45A2-98AA-DDFFBC00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BF48-41BE-410D-8B51-F529E1A0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5A3-7300-4E9A-98CF-4234A5DA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3CCF-3C5F-47AD-A0DB-EA0BC48A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D1D-D2C4-45D0-B87E-921D235E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0E15-EA85-4E0B-AAFD-FCE4BEDE9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8FAC-0F01-46AF-91CF-9AAEAA9C946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2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3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27F0-5705-478D-8037-539D9EE877D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x5vmw9IRvQAwBmJzbkF;_ylu=X3oDMTBxOGhsbDljBHBvcwMxBHNlYwNzcgR2dGlkA0kwODVfMTA3/SIG=1fc2ajqv0/EXP=1209068783/**http%3A//images.search.yahoo.com/images/view%3Fback=http%253A%252F%252Fimages.search.yahoo.com%252Fsearch%252Fimages%253Fp%253Dbono%2526fr%253Dyfp-t-501-s%2526ei%253Dutf-8%2526js%253D1%2526x%253Dwrt%2526vm%253Dr%26w=1417%26h=1779%26imgurl=www.wadias.in%252Fsite%252Farzan%252Fblog%252Fbono.jpg%26rurl=http%253A%252F%252Fwadias.in%252Fsite%252Farzan%252Fblog%252Farchives%252Fbono-for-president%26size=391.1kB%26name=bono.jpg%26p=bono%26type=JPG%26oid=5d983fbb7f58a10a%26no=1&amp;tt=291866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nHmg9IunEAjeCJzbkF;_ylu=X3oDMTBxcTk4NDl0BHBvcwM0BHNlYwNzcgR2dGlkA0kwODVfMTA3/SIG=1dlrne65b/EXP=1209068615/**http%3A//images.search.yahoo.com/images/view%3Fback=http%253A%252F%252Fimages.search.yahoo.com%252Fsearch%252Fimages%253F_adv_prop%253Dimage%2526fr%253Dyfp-t-501-s%2526va%253Dabe%252Blincoln%2526sz%253D%26w=288%26h=392%26imgurl=www.coverups.com%252Fscans%252Flincoln.jpeg%26rurl=http%253A%252F%252Fwww.coverups.com%252Flincoln%26size=15.7kB%26name=lincoln.jpeg%26p=abe%20lincoln%26type=JPG%26oid=5b097294a4e1d644%26no=4&amp;tt=29598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iamw9IlFIAeIyJzbkF;_ylu=X3oDMTBxOGhsbDljBHBvcwMxBHNlYwNzcgR2dGlkA0kwODVfMTA3/SIG=1e5ug8bh4/EXP=1209068826/**http%3A//images.search.yahoo.com/images/view%3Fback=http%253A%252F%252Fimages.search.yahoo.com%252Fsearch%252Fimages%253Fp%253Dbill%252Bgates%2526fr%253Dyfp-t-501-s%2526ei%253Dutf-8%2526js%253D1%2526x%253Dwrt%2526vm%253Dr%26w=125%26h=146%26imgurl=mivadika.com%252Fimages%252Fmvdk%252FBill_Gates.jpg%26rurl=http%253A%252F%252Fmivadika.com%252F%26size=9.4kB%26name=Bill_Gates.jpg%26p=bill%20gates%26type=JPG%26oid=8d67d68b4a052102%26no=1&amp;tt=127854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Impact"/>
              </a:rPr>
              <a:t>It is true that everybody has the ability to do great good.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By: Andrea Salton and Audrey Re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MOD.jpg MARCH FO DIMES image by lnoel0"/>
          <p:cNvPicPr/>
          <p:nvPr/>
        </p:nvPicPr>
        <p:blipFill>
          <a:blip r:embed="rId1"/>
          <a:stretch/>
        </p:blipFill>
        <p:spPr>
          <a:xfrm>
            <a:off x="1523880" y="228600"/>
            <a:ext cx="5710320" cy="6400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habitat01.jpg habitat for humanity image by chibetadelta"/>
          <p:cNvPicPr/>
          <p:nvPr/>
        </p:nvPicPr>
        <p:blipFill>
          <a:blip r:embed="rId1"/>
          <a:stretch/>
        </p:blipFill>
        <p:spPr>
          <a:xfrm>
            <a:off x="1695600" y="1271520"/>
            <a:ext cx="5752800" cy="43149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066680"/>
            <a:ext cx="3789360" cy="4772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209-501.gif Heart of the Crusade Pin image by bonniemillsavon"/>
          <p:cNvPicPr/>
          <p:nvPr/>
        </p:nvPicPr>
        <p:blipFill>
          <a:blip r:embed="rId1"/>
          <a:stretch/>
        </p:blipFill>
        <p:spPr>
          <a:xfrm>
            <a:off x="1828800" y="838080"/>
            <a:ext cx="5181480" cy="4967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NY-ASPCA.jpg ASPCA!!! image by Anim3fr3ak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Picture547.jpg picture by whatever65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rcRect l="0" t="0" r="0" b="6638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firefighters.jpg Firefighters image by kovacshamilt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airplane.jpg airplane image by cswaring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0eed837d.jpg Railway image by holic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685800"/>
            <a:ext cx="3581280" cy="4986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Picture544.jpg picture by whatever65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relay.jpg Relay for Life image by asmcgarry"/>
          <p:cNvPicPr/>
          <p:nvPr/>
        </p:nvPicPr>
        <p:blipFill>
          <a:blip r:embed="rId1"/>
          <a:stretch/>
        </p:blipFill>
        <p:spPr>
          <a:xfrm>
            <a:off x="2286000" y="914400"/>
            <a:ext cx="4476600" cy="4967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TheRestrictedSection.jpg library image by thisroyalc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Lighthouse.jpg Split Rock Lighthouse image by JasonARoth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st_augustine_lighthouse_7.jpg lighthouse image by froggr3420r8q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419M-10.jpg image by modern-art-painting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mb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Image Preview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5867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mother_teresa.jpg Mother Teresa image by rlgeggis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teresa.jpg image by angelianholly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Go to fullsize image"/>
          <p:cNvPicPr/>
          <p:nvPr/>
        </p:nvPicPr>
        <p:blipFill>
          <a:blip r:embed="rId1"/>
          <a:stretch/>
        </p:blipFill>
        <p:spPr>
          <a:xfrm>
            <a:off x="2590920" y="1066680"/>
            <a:ext cx="3728880" cy="4481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066680"/>
            <a:ext cx="3770280" cy="44053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MilitaryPoliceInIraq.jpg Military police image by connor40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Livestrong.jpg lance armstrong image by survivorque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Picture549.jpg picture by whatever6585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thpersonaggi_amelia_zoom.jpg Airheart image by weepingunderwillows"/>
          <p:cNvPicPr/>
          <p:nvPr/>
        </p:nvPicPr>
        <p:blipFill>
          <a:blip r:embed="rId1"/>
          <a:stretch/>
        </p:blipFill>
        <p:spPr>
          <a:xfrm>
            <a:off x="2666880" y="609480"/>
            <a:ext cx="3686400" cy="5634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9:29:41Z</dcterms:created>
  <dc:creator>Administrator</dc:creator>
  <dc:description/>
  <dc:language>en-US</dc:language>
  <cp:lastModifiedBy>Terry Reed</cp:lastModifiedBy>
  <dcterms:modified xsi:type="dcterms:W3CDTF">2008-04-23T23:45:43Z</dcterms:modified>
  <cp:revision>5</cp:revision>
  <dc:subject/>
  <dc:title>Visual Argument</dc:title>
</cp:coreProperties>
</file>